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721A-77E4-4C6E-957F-006CCB49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F526-CB0F-4A92-829D-CC644141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10E5-1B5C-49E1-B8ED-95103E20B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0685-E0F9-4D81-B7D8-1F295B36D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AAC1-24C5-4E9D-9CC3-C8669BD7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9EE5-202D-4BCA-834B-7D3F2081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679F-1D33-4096-87A8-BE1B4F68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F7A3-FDB1-4E95-AC8D-61DC7D4B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AE49-C3A4-4FA1-8899-27F7B128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B058-B55D-4325-8703-D6D195F5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AC14-FF2A-46A0-8F58-B70EA3C9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8379-00F5-4A3D-919D-FD5DB30E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781E-146E-41F7-8019-99987E7F7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605800" y="6095880"/>
            <a:ext cx="304920" cy="274680"/>
          </a:xfrm>
          <a:prstGeom prst="rect">
            <a:avLst/>
          </a:prstGeom>
          <a:solidFill>
            <a:srgbClr val="efe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605800" y="4876920"/>
            <a:ext cx="304920" cy="1143000"/>
          </a:xfrm>
          <a:prstGeom prst="rect">
            <a:avLst/>
          </a:prstGeom>
          <a:solidFill>
            <a:srgbClr val="fbf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605800" y="4121280"/>
            <a:ext cx="304920" cy="691920"/>
          </a:xfrm>
          <a:prstGeom prst="rect">
            <a:avLst/>
          </a:prstGeom>
          <a:solidFill>
            <a:srgbClr val="ccf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605800" y="609480"/>
            <a:ext cx="304920" cy="3429000"/>
          </a:xfrm>
          <a:prstGeom prst="rect">
            <a:avLst/>
          </a:prstGeom>
          <a:solidFill>
            <a:srgbClr val="cff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00200" y="4876920"/>
            <a:ext cx="6934320" cy="1143000"/>
          </a:xfrm>
          <a:prstGeom prst="rect">
            <a:avLst/>
          </a:prstGeom>
          <a:solidFill>
            <a:srgbClr val="fbf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4121280"/>
            <a:ext cx="6934320" cy="685800"/>
          </a:xfrm>
          <a:prstGeom prst="rect">
            <a:avLst/>
          </a:prstGeom>
          <a:solidFill>
            <a:srgbClr val="ccf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609480"/>
            <a:ext cx="6934320" cy="3429000"/>
          </a:xfrm>
          <a:prstGeom prst="rect">
            <a:avLst/>
          </a:prstGeom>
          <a:solidFill>
            <a:srgbClr val="cff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596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MOD  @  Plant and Animal Genome X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8043480" y="210168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sh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rot="5400000">
            <a:off x="8373240" y="4286160"/>
            <a:ext cx="7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l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595440"/>
            <a:ext cx="70815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base Resources at the EBI: Ensembl (including BioMa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nday, 8:00-9:00am, California Room, Bert Overdu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Generic Genome Browser: A Hands on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nday, 1:30-3:40pm, California Room, Scott C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ing Gramene (including CMap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uesday, 3:50-6:00pm, California Room, Ken Youens-Clar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02960" y="4084560"/>
            <a:ext cx="575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veloping a Comprehensive Genomics, Genetics &amp; Breeding DB for Caca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nday, 3:45-4:00pm, Pacific Salon 6 &amp; 7, Ping Zhe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to Use MetaCyc and the Pathway Tools Software in Local M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nday, 4:30-4:50pm, California Room, Lukas Mue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8247600" y="52639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4876920"/>
            <a:ext cx="70218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798: CottonDB: An Integrated Repository Resource for Cot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800: Genome Annotation and Report System: An Integrated System for Structural &amp; Functional Genome Anno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805: GnpIS, A Portal andInformation System to Bridge Genetics and Genomics Pland &amp; Fungi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814: Informatics for Turbo-charged Comparative Biology: Highlights from the GMOD Evo Hackath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818: A Complete Community Annotation System using GMOD To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828: GBrowse 2.2: Fast, Friendly, and Soci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888: GDR (Genome Database for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Rosacea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Building Resources for Translational Research in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Rosace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72400" y="6437160"/>
            <a:ext cx="1295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PhenixAmerican"/>
              </a:rPr>
              <a:t>Got gen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5800" y="601560"/>
            <a:ext cx="13406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MOD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-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iferG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zeG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y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tton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CCA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n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hundreds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MOD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gat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pres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6477120"/>
            <a:ext cx="3429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gmod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6095880"/>
            <a:ext cx="6934320" cy="274680"/>
          </a:xfrm>
          <a:prstGeom prst="rect">
            <a:avLst/>
          </a:prstGeom>
          <a:solidFill>
            <a:srgbClr val="efe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8680" y="6093000"/>
            <a:ext cx="6348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nd at least 8 other talks and 9 more posters by GMOD users (see http://gmod.org/wiki/PAG_201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602200" y="6033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5977080"/>
            <a:ext cx="990720" cy="728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600200" y="1752480"/>
            <a:ext cx="5638680" cy="2286000"/>
          </a:xfrm>
          <a:prstGeom prst="rect">
            <a:avLst/>
          </a:prstGeom>
          <a:solidFill>
            <a:srgbClr val="9fd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1752480"/>
            <a:ext cx="1295640" cy="2286000"/>
          </a:xfrm>
          <a:prstGeom prst="rect">
            <a:avLst/>
          </a:prstGeom>
          <a:solidFill>
            <a:srgbClr val="9fd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6280" y="3429000"/>
            <a:ext cx="1105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ednes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:20 - 5: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cific Salon 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1752480"/>
            <a:ext cx="5638680" cy="22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KER: An easy to use genome annotation pipeli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nesday, 10:30-11:30am, Pacific Salon 3, Carson Ho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alaxy: Analyze, Visualize, Communic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nesday, 11:30am-12:30pm, Pacific Salon 3, Dan Blankenber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JBrowse: A Next Generation Genome Brows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nesday, 1:30-2:30pm, Pacific Salon 3, Mitch Skinn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ipal: A Construction Toolkit for Online Genomic Databa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nesday, 2:30-3:30pm, Pacific Salon 3, Stephen Fickl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MODviews: A Configurable Interface for GMOD Databases &amp;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nesday, 3:45-4:00pm, Pacific Salon 3, Michael Caud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Browse_syn: The Generic Synteny Brows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dnesday, 4:00-5:00pm, Pacific Salon 3, Robert Bue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17000" y="1793880"/>
            <a:ext cx="1137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MO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gan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no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sual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7:30:39Z</dcterms:created>
  <dc:creator>GMOD / NESCent</dc:creator>
  <dc:description/>
  <dc:language>en-US</dc:language>
  <cp:lastModifiedBy>GMOD / NESCent</cp:lastModifiedBy>
  <cp:lastPrinted>2010-12-27T05:38:31Z</cp:lastPrinted>
  <dcterms:modified xsi:type="dcterms:W3CDTF">2011-01-04T20:58:57Z</dcterms:modified>
  <cp:revision>46</cp:revision>
  <dc:subject/>
  <dc:title>PowerPoint Presentation</dc:title>
</cp:coreProperties>
</file>